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E694-FC7B-4CA8-8386-3191A7D84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D940-8481-476E-8698-50685636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7113-0D46-4ACB-886B-0399799BB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A191-2984-48F0-830F-25C3A5132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76B6-9179-40AB-9F0C-86C99F4F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D7CF-9C1C-46B7-9B9E-673BA4C3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2CC6-2A31-4974-A6C7-98593714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3C3E-3602-40BD-8431-5484F20A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6655-02D5-46E4-8F8C-C2D509EF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7C64-4FA0-4521-9C69-A6D70F0C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9BD6-6F66-4B28-8A24-9B301CBD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6E84-169D-40A7-809B-65269E7B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2600" y="-33480"/>
            <a:ext cx="9235800" cy="6975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B27E-64D8-4FBB-9B41-136F343B57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iki.org/wiki.cgi?WhatIsWiki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Wiki 101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&amp;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 WikiSpaces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 Rounded MT Bold"/>
              </a:rPr>
              <a:t>Greg Asman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 Rounded MT Bold"/>
                <a:hlinkClick r:id="rId1"/>
              </a:rPr>
              <a:t>What is a Wiki?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A Web Page or a Shared web document where many users can contribute to it.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The Wikipedia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24285" r="0" b="0"/>
          <a:stretch/>
        </p:blipFill>
        <p:spPr>
          <a:xfrm>
            <a:off x="380880" y="1003320"/>
            <a:ext cx="8382240" cy="554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What Can I use a Wiki for?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To Create a Simple Web Page or Web Site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To create shared documents that are accessible on the web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To Create Collaborative Communities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To Build Knowledgebases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To Blog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To Podcast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Educational Wikis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http://educationalwikis.wikispaces.com/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How do I Wiki?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Create an Account(Already done for you!)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Join a Wiki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Log In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Click Edit to add/modify the content on a page!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To Make a New Page: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ype the Linking Tex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Highlight i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on the Link button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Springboro School’s Wiki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(Thus Far!)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Springboro: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The district’s open Wiki; Will hold teacher’s web pages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SpringboroK12: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the District’s Closed Wiki primarily for student use and student-created Content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SpringboroPTO: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A Site for our PTOs to use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Springborojhstaff: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A Closed wiki for the JH’s staff.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Wiki Documentation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Is located at the top of the Springboro Page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21:22:57Z</dcterms:created>
  <dc:creator>User</dc:creator>
  <dc:description/>
  <dc:language>en-US</dc:language>
  <cp:lastModifiedBy>gasman</cp:lastModifiedBy>
  <dcterms:modified xsi:type="dcterms:W3CDTF">2009-05-19T13:05:45Z</dcterms:modified>
  <cp:revision>52</cp:revision>
  <dc:subject/>
  <dc:title>Using Data to Improve Classroom Instruction</dc:title>
</cp:coreProperties>
</file>